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40C9-1183-4AA4-B0BB-A12F615BE12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EE5D-C006-4767-9A22-93FFA0CF9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85680" y="741240"/>
            <a:ext cx="4886640" cy="3665520"/>
          </a:xfrm>
          <a:prstGeom prst="rect">
            <a:avLst/>
          </a:prstGeom>
          <a:ln w="0">
            <a:noFill/>
          </a:ln>
        </p:spPr>
      </p:sp>
      <p:sp>
        <p:nvSpPr>
          <p:cNvPr id="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1F14-FE92-43B8-95B1-96A2907A4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85680" y="741240"/>
            <a:ext cx="4886640" cy="3665520"/>
          </a:xfrm>
          <a:prstGeom prst="rect">
            <a:avLst/>
          </a:prstGeom>
          <a:ln w="0">
            <a:noFill/>
          </a:ln>
        </p:spPr>
      </p:sp>
      <p:sp>
        <p:nvSpPr>
          <p:cNvPr id="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7C62-E616-4E75-8078-ECDD2EF96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85680" y="741240"/>
            <a:ext cx="4886640" cy="3665520"/>
          </a:xfrm>
          <a:prstGeom prst="rect">
            <a:avLst/>
          </a:prstGeom>
          <a:ln w="0">
            <a:noFill/>
          </a:ln>
        </p:spPr>
      </p:sp>
      <p:sp>
        <p:nvSpPr>
          <p:cNvPr id="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94AE-C295-4F80-90B1-562126E9C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985680" y="741240"/>
            <a:ext cx="4886640" cy="3665520"/>
          </a:xfrm>
          <a:prstGeom prst="rect">
            <a:avLst/>
          </a:prstGeom>
          <a:ln w="0">
            <a:noFill/>
          </a:ln>
        </p:spPr>
      </p:sp>
      <p:sp>
        <p:nvSpPr>
          <p:cNvPr id="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52FC-25CA-4F3F-A620-FD63CF297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85680" y="741240"/>
            <a:ext cx="4886640" cy="3665520"/>
          </a:xfrm>
          <a:prstGeom prst="rect">
            <a:avLst/>
          </a:prstGeom>
          <a:ln w="0">
            <a:noFill/>
          </a:ln>
        </p:spPr>
      </p:sp>
      <p:sp>
        <p:nvSpPr>
          <p:cNvPr id="7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8ADB-657E-4D36-9742-EFCC077DD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985680" y="741240"/>
            <a:ext cx="4886640" cy="3665520"/>
          </a:xfrm>
          <a:prstGeom prst="rect">
            <a:avLst/>
          </a:prstGeom>
          <a:ln w="0">
            <a:noFill/>
          </a:ln>
        </p:spPr>
      </p:sp>
      <p:sp>
        <p:nvSpPr>
          <p:cNvPr id="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55C8-F164-49EA-B0A1-5B355E426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85680" y="741240"/>
            <a:ext cx="4886640" cy="3665520"/>
          </a:xfrm>
          <a:prstGeom prst="rect">
            <a:avLst/>
          </a:prstGeom>
          <a:ln w="0">
            <a:noFill/>
          </a:ln>
        </p:spPr>
      </p:sp>
      <p:sp>
        <p:nvSpPr>
          <p:cNvPr id="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FA44-3DA2-40F9-9190-F4CBD9225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85680" y="741240"/>
            <a:ext cx="4886640" cy="3665520"/>
          </a:xfrm>
          <a:prstGeom prst="rect">
            <a:avLst/>
          </a:prstGeom>
          <a:ln w="0">
            <a:noFill/>
          </a:ln>
        </p:spPr>
      </p:sp>
      <p:sp>
        <p:nvSpPr>
          <p:cNvPr id="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CA28-9976-4056-A009-389C5BFF8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85680" y="741240"/>
            <a:ext cx="4886640" cy="3665520"/>
          </a:xfrm>
          <a:prstGeom prst="rect">
            <a:avLst/>
          </a:prstGeom>
          <a:ln w="0">
            <a:noFill/>
          </a:ln>
        </p:spPr>
      </p:sp>
      <p:sp>
        <p:nvSpPr>
          <p:cNvPr id="7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BBB1-B4C9-47A3-A062-1216FA797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985680" y="741240"/>
            <a:ext cx="4886640" cy="3665520"/>
          </a:xfrm>
          <a:prstGeom prst="rect">
            <a:avLst/>
          </a:prstGeom>
          <a:ln w="0">
            <a:noFill/>
          </a:ln>
        </p:spPr>
      </p:sp>
      <p:sp>
        <p:nvSpPr>
          <p:cNvPr id="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E7A8-0A0A-4C31-8A6A-79723737E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85680" y="741240"/>
            <a:ext cx="4886640" cy="3665520"/>
          </a:xfrm>
          <a:prstGeom prst="rect">
            <a:avLst/>
          </a:prstGeom>
          <a:ln w="0">
            <a:noFill/>
          </a:ln>
        </p:spPr>
      </p:sp>
      <p:sp>
        <p:nvSpPr>
          <p:cNvPr id="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030D-1720-408A-AF47-44591D3CD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985680" y="741240"/>
            <a:ext cx="4886640" cy="3665520"/>
          </a:xfrm>
          <a:prstGeom prst="rect">
            <a:avLst/>
          </a:prstGeom>
          <a:ln w="0">
            <a:noFill/>
          </a:ln>
        </p:spPr>
      </p:sp>
      <p:sp>
        <p:nvSpPr>
          <p:cNvPr id="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CE69-05BC-4AFC-98A9-1EEF1576E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985680" y="741240"/>
            <a:ext cx="4886640" cy="3665520"/>
          </a:xfrm>
          <a:prstGeom prst="rect">
            <a:avLst/>
          </a:prstGeom>
          <a:ln w="0">
            <a:noFill/>
          </a:ln>
        </p:spPr>
      </p:sp>
      <p:sp>
        <p:nvSpPr>
          <p:cNvPr id="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5E86-CE95-4042-B3FF-DB048F823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472C-BFEE-46A5-A8C7-E218A9EC8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85680" y="741240"/>
            <a:ext cx="4886640" cy="3665520"/>
          </a:xfrm>
          <a:prstGeom prst="rect">
            <a:avLst/>
          </a:prstGeom>
          <a:ln w="0">
            <a:noFill/>
          </a:ln>
        </p:spPr>
      </p:sp>
      <p:sp>
        <p:nvSpPr>
          <p:cNvPr id="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01A2-8D9B-4D8E-A4AE-E8AF65082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85680" y="741240"/>
            <a:ext cx="4886640" cy="3665520"/>
          </a:xfrm>
          <a:prstGeom prst="rect">
            <a:avLst/>
          </a:prstGeom>
          <a:ln w="0">
            <a:noFill/>
          </a:ln>
        </p:spPr>
      </p:sp>
      <p:sp>
        <p:nvSpPr>
          <p:cNvPr id="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0EB7-3646-4F1D-871E-8953C9E43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985680" y="741240"/>
            <a:ext cx="4886640" cy="3665520"/>
          </a:xfrm>
          <a:prstGeom prst="rect">
            <a:avLst/>
          </a:prstGeom>
          <a:ln w="0">
            <a:noFill/>
          </a:ln>
        </p:spPr>
      </p:sp>
      <p:sp>
        <p:nvSpPr>
          <p:cNvPr id="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E568-A212-4EDA-8617-50B5C9A1D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85680" y="741240"/>
            <a:ext cx="4886640" cy="3665520"/>
          </a:xfrm>
          <a:prstGeom prst="rect">
            <a:avLst/>
          </a:prstGeom>
          <a:ln w="0">
            <a:noFill/>
          </a:ln>
        </p:spPr>
      </p:sp>
      <p:sp>
        <p:nvSpPr>
          <p:cNvPr id="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0370-D8B9-4F4B-B538-EF42C2DF6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985680" y="741240"/>
            <a:ext cx="4886640" cy="3665520"/>
          </a:xfrm>
          <a:prstGeom prst="rect">
            <a:avLst/>
          </a:prstGeom>
          <a:ln w="0">
            <a:noFill/>
          </a:ln>
        </p:spPr>
      </p:sp>
      <p:sp>
        <p:nvSpPr>
          <p:cNvPr id="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1221-DD3D-4031-9FDD-844F0CB7E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85680" y="741240"/>
            <a:ext cx="4886640" cy="3665520"/>
          </a:xfrm>
          <a:prstGeom prst="rect">
            <a:avLst/>
          </a:prstGeom>
          <a:ln w="0">
            <a:noFill/>
          </a:ln>
        </p:spPr>
      </p:sp>
      <p:sp>
        <p:nvSpPr>
          <p:cNvPr id="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9682-6F61-47E2-BE14-F4FB5C34B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985680" y="741240"/>
            <a:ext cx="4886640" cy="3665520"/>
          </a:xfrm>
          <a:prstGeom prst="rect">
            <a:avLst/>
          </a:prstGeom>
          <a:ln w="0">
            <a:noFill/>
          </a:ln>
        </p:spPr>
      </p:sp>
      <p:sp>
        <p:nvSpPr>
          <p:cNvPr id="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CDE4-F491-4F9E-BD20-5E2D1C866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4048-0590-46D4-9C5D-EB240447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A73451-0B9D-4790-8A75-4C22D9188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B9A9A-90D2-4F5E-86F2-7687D3419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68045F-32FF-4B70-9A08-5C0582D085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11E11-6A94-49BA-A231-B6B628EB4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FE014-200C-4C27-AABE-5FEC3E2ED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26DE6-53F7-4816-8830-D80E84470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FFC84-DEB9-477A-9684-525CF3BBFE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9931D4-D70F-4849-ABC7-0E61F1AEA9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78A265-ED71-474D-9EAB-156FA2B273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D6E2F-81BB-4B61-A6CA-9907612227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7410-4CEC-4554-8188-D4FEEC365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9D4CF3-7515-48B6-B578-BDA2F0F4BC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185931-13F7-42FD-BB9E-FD99BF2716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636538-F19A-4727-93BB-2A8F8AA42D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B7F92E-1C7D-4233-AFB4-98D40E59EB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44066A-695D-40EB-9A46-EA409EA2AB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CF196B-15CE-4EF4-9EA6-8685FDC481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CE077-C9E5-4DB8-A4EB-53F2EEE571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D21D8F-8021-4169-BC20-A07D420EB2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139A96-BF41-4918-997A-3EDCE88E2F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ACFD20-B1C4-4644-BFE5-EB42C0E924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DBAE5-3C20-4702-9AA4-389C65553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B9EF39-9DF0-4CC3-8E74-088E02517B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F021F4-0017-468B-9296-BA428B25E4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BD37BD-420C-425C-A96F-E113E4EC1C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088183-B43E-493A-A992-6AAA310B98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A837CD-9670-4B46-A93F-BC711A6A50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4ABD59-5EF0-4AAE-A2AD-2AC29553F9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D4720-8107-4398-BFCF-195445843C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4CBCFB-9023-44FF-A73A-BB167B930C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78AAF7-0584-4A02-A52B-93F077D8B3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F1DC50-8170-4E4E-A591-BAC517D376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876AB-8339-489E-B82E-501B64E48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112007-3459-4874-816A-27169B6DB0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DBE42E-6564-4D6C-AE4A-C4D9C9AD5D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146D77-CB3D-4764-B643-B5867277EB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606B18-30CE-4FA1-ABD5-3BC9B57E7A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D6967B-464E-40F1-BA71-C4C4B31CD7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92C2C6-B60B-47DD-88F4-EFF6AF20E8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55FBFC-9927-4F1C-851C-00BCA2A8AB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80A4DF-FF38-42AA-A3F9-B81EA91875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2CEA26-E0F8-40D8-A6BD-B76C282FD0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4BEF21-A276-4033-9AD0-4125A4522F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52E94-A16A-4504-B012-6440892E2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F9004-9AB0-41A1-BDC6-8E2DD2D833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40174A-6883-49FB-A59B-4482A3BBA4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E3DDAB-EE11-4B39-9607-8AECF422CB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426F6A-5478-4772-A8E3-749AD77AC4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6E7E6D-A6EA-4E41-8FB5-59D1F18809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F6A45E7-0BAC-4888-BBCC-F204130887CB}"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B79226D-77E2-4966-99B5-8513734F89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E6FA42A-B727-4CA2-A134-F277C3F6E1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1DBDA2B-79E2-4F05-84F7-AFE660CEA3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FB96D586-3B61-40B6-9C7E-CFE4D8BC3C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47E3-97DB-462D-BC70-A2E9EBD86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D93DDB4-0B02-4615-A0F3-4CC9DBC659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12E3958-4E9F-417F-9EAF-41F86723DF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7BDAB4-3B8B-4CCB-BA64-29E5D5EA6F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E43CDEE-CBFC-4AAF-8BDF-84F2DFF642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A15611E-7E75-43F8-BC1C-FF27E0342D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770184F4-2114-4211-9BD4-C33E7D3FE0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1A62B56-7455-4820-AAE2-BA95F1B93C2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158FC-22A9-4D6D-9241-71E457CE8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2547D-66A3-4120-9079-7263F5D43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BBA8C-4F8A-4C2C-8F0B-0663016FF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FCBB9-3D50-40D2-8D25-FC402F9CC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B2542-E175-49C5-889F-737A493DB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229F9-C579-4CBE-B624-24ECA7E7E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76000-2DC0-44B2-A066-13C379F09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EEEF6-E6E4-43B7-9B9C-3AB79B2D4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1C63F-952C-4AE4-9B35-E5A394286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66138-D480-46DE-BE90-040CA22E4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CD08F-7349-4AFA-95E1-FD2BF1938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A91B5-4517-4DC9-B91B-951ED7624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B87FD-9DB2-44CE-B260-456554B2C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0815F-BA35-4173-89B8-CC3C2DB6F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4D498-AED6-4298-BB80-DD36375D5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DA38-D4D7-4BAA-9415-E55F8570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3F5E3-19CB-4FE9-8D3A-B2AA85D7B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86725-FC25-4889-8B99-2025491AF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CA664-7589-4EB2-94B4-DAA937DCF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BE33B-30EB-4DCC-BD3F-EA97B0740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34D14-F17F-4772-9492-CD92EAE6B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9D3BA-D699-406F-85FA-67E50974C1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1A13D-542B-41DB-9DD4-4E3921EB9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75E8A-F900-4BA4-808E-EE5DA49BA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7415D1-88D5-45F0-ACEC-1A5A1EA6B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E2AE9-9455-4111-8046-F5A42A9F6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6533-EF0C-4E23-952D-6F1A3DB2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5A11C-8279-4342-AF50-893EDBE1C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1D2F9-9109-47C1-8DCC-30CF01E88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49061-D136-4DCE-9C73-98E2BAC5F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8EA26-7DB0-4EBE-8A8C-79027A2AD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73F30-4F99-4BF6-81F0-AD8FA9F5B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E6B2C-A158-4B27-AE71-8D7FBB15D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0CD65-77AA-4C8D-8EEF-51495F924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690B41-AB40-4E70-8A83-9344A6B5B0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4CE99E-D9D8-4C0A-A75B-A635DA4CB3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A5194-EA0B-487B-9BF3-CE59165F7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1DAE3-A417-4D7D-B433-C8502358D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69D28C-FECA-4332-B22F-BD162DA4D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2A474-1B31-43C9-A254-2BBDD1FFB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4352A-E899-40F4-BD42-CE79E7B80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7BBF2-33CD-4DD6-948D-B60190EAF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B19A74-14B1-4050-AB63-D8A8E33CC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367FE-EDE5-45B8-88BB-15F5EAC36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D1730-18B9-4488-808B-4B710B5BD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D8722-E434-4AE1-BB1D-ABC87669E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37264-E258-4442-B3B6-EB5CC91A5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B2286-551D-4208-8995-3A1812F93F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102F-7094-4F8E-9C38-3A11F441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6EC509-B2FE-4FAC-B7F4-48186CF04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9471FD-5B75-4440-815F-AF5FCE7A75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6E20A-DA33-4A38-87C0-EB9FA5286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F8673-2E36-4850-A08F-9546BF4EC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627B0-64FE-46F4-8854-234EFA82B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BFDBD-3653-4993-80F1-88675560F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1069D-98FB-4ABA-B611-43791E531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1D0F2-D733-430E-ABAC-F755C1387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C8901-3096-4A92-BA49-1C9AA59E1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ED131-095A-4815-88C8-B4CCE72E3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174BE-D299-46D5-927F-7D0E06A8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76BDE-2FB9-41C6-A3A1-F360C3D0F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8C72E5-CE2F-4320-A822-08B6BC9210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32B9A1-CF08-4A93-9DE3-D9B6E71B14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E790C8-671B-46CB-B873-FFB56B196D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38F9F4-2276-497E-B88E-15DB5BA59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C4AE4-1D55-4B1C-B873-F03BCF747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F4EDA-042C-4FB5-8D20-BEF62ADF21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BDA9D-97BD-4048-AD76-7CCCA5456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077493-A97C-4872-B927-99108F13A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89DB6D-8C01-4D1C-A375-DBA582B82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0F88-F114-4756-9D06-38931C4A5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FAF86-B70F-4EBC-84AD-59F1FD1C2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881B4-EB60-4BDF-801A-2136104D3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267EC-DBF8-4EA5-AE3D-E70082DA2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70DD01-7911-4ED3-AF15-C222EC9775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62B52D-E1F0-4CD6-8B1E-99504B1F88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90D09C-8934-48B2-907F-88A77B1514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2F1B2-9853-4304-9CC0-0BC9B4B88E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2691A-2730-4D1D-B400-ADBF235EC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53950-9F1C-4CE9-A8E4-4996E6344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56263-2C48-43FC-B55F-EDBCFC481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9048-7887-48AB-BF83-CF3B913A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D9D49-5CA8-4DA5-80C8-7E35F0C11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83814-A429-4966-BC22-62F59A8B9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EA7CB-31C9-41DA-A8A5-4ED140E28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2FB0D-8C2E-41C3-A879-A268D53A8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D9EB7-9DA7-4439-83EF-20F377B0E0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E49CDA-99AD-471A-8353-E78934E111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FCF965-667F-4967-AEA6-78D996EAD1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9B3ADD-7B37-4089-97F6-D296EFF87F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F50E3-8267-41BF-8F71-625C19068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70721-F9B3-4726-8FAC-16E7F7C949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55A2-3831-4878-9869-1448EF9A44F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F5C8-F0C3-4004-A107-012141593BE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867E-19CA-49E7-A21E-C104F3A2FAD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D6E0-DEDE-4755-99B7-0EBD72C34B8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B468-1DE4-4873-8AE8-E157E0FA8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5DC9-78C1-4010-B502-2B2C38A0180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0CEB-949C-4CED-9D1F-833FE16A02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2967-5179-4672-A71D-BCB65CB5F9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937C-E28B-4381-86A7-D291EAFE72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947B-C23B-4741-B4CC-D9DA6E86A2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7272-37F0-41B8-B003-8D1EC3AA43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4255-DFE2-4074-A5DD-7530E26883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FECF-EB6E-420D-AB6D-75A1A7D8C5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99640" y="1268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737" name="Picture 9" descr=""/>
          <p:cNvPicPr/>
          <p:nvPr/>
        </p:nvPicPr>
        <p:blipFill>
          <a:blip r:embed="rId1"/>
          <a:stretch/>
        </p:blipFill>
        <p:spPr>
          <a:xfrm>
            <a:off x="0" y="0"/>
            <a:ext cx="9144000" cy="1368360"/>
          </a:xfrm>
          <a:prstGeom prst="rect">
            <a:avLst/>
          </a:prstGeom>
          <a:ln w="0">
            <a:noFill/>
          </a:ln>
        </p:spPr>
      </p:pic>
      <p:pic>
        <p:nvPicPr>
          <p:cNvPr id="738" name="Picture 10" descr=""/>
          <p:cNvPicPr/>
          <p:nvPr/>
        </p:nvPicPr>
        <p:blipFill>
          <a:blip r:embed="rId2"/>
          <a:stretch/>
        </p:blipFill>
        <p:spPr>
          <a:xfrm>
            <a:off x="1258920" y="2060640"/>
            <a:ext cx="1297080" cy="1528560"/>
          </a:xfrm>
          <a:prstGeom prst="rect">
            <a:avLst/>
          </a:prstGeom>
          <a:ln w="0">
            <a:noFill/>
          </a:ln>
        </p:spPr>
      </p:pic>
      <p:pic>
        <p:nvPicPr>
          <p:cNvPr id="739" name="12 - Εικόνα" descr=""/>
          <p:cNvPicPr/>
          <p:nvPr/>
        </p:nvPicPr>
        <p:blipFill>
          <a:blip r:embed="rId3"/>
          <a:stretch/>
        </p:blipFill>
        <p:spPr>
          <a:xfrm>
            <a:off x="6948360" y="1989000"/>
            <a:ext cx="1444680" cy="1573200"/>
          </a:xfrm>
          <a:prstGeom prst="rect">
            <a:avLst/>
          </a:prstGeom>
          <a:ln w="0">
            <a:noFill/>
          </a:ln>
        </p:spPr>
      </p:pic>
      <p:sp>
        <p:nvSpPr>
          <p:cNvPr id="74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7" name="Ομάδα 1"/>
          <p:cNvGrpSpPr/>
          <p:nvPr/>
        </p:nvGrpSpPr>
        <p:grpSpPr>
          <a:xfrm>
            <a:off x="0" y="306360"/>
            <a:ext cx="9144000" cy="6551640"/>
            <a:chOff x="0" y="306360"/>
            <a:chExt cx="9144000" cy="6551640"/>
          </a:xfrm>
        </p:grpSpPr>
        <p:grpSp>
          <p:nvGrpSpPr>
            <p:cNvPr id="558" name="Ομάδα 1"/>
            <p:cNvGrpSpPr/>
            <p:nvPr/>
          </p:nvGrpSpPr>
          <p:grpSpPr>
            <a:xfrm>
              <a:off x="0" y="306360"/>
              <a:ext cx="9144000" cy="6551640"/>
              <a:chOff x="0" y="306360"/>
              <a:chExt cx="9144000" cy="6551640"/>
            </a:xfrm>
          </p:grpSpPr>
          <p:sp>
            <p:nvSpPr>
              <p:cNvPr id="559"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6" name="Ομάδα 1"/>
          <p:cNvGrpSpPr/>
          <p:nvPr/>
        </p:nvGrpSpPr>
        <p:grpSpPr>
          <a:xfrm>
            <a:off x="0" y="306360"/>
            <a:ext cx="9144000" cy="6551640"/>
            <a:chOff x="0" y="306360"/>
            <a:chExt cx="9144000" cy="6551640"/>
          </a:xfrm>
        </p:grpSpPr>
        <p:grpSp>
          <p:nvGrpSpPr>
            <p:cNvPr id="567" name="Ομάδα 1"/>
            <p:cNvGrpSpPr/>
            <p:nvPr/>
          </p:nvGrpSpPr>
          <p:grpSpPr>
            <a:xfrm>
              <a:off x="0" y="306360"/>
              <a:ext cx="9144000" cy="6551640"/>
              <a:chOff x="0" y="306360"/>
              <a:chExt cx="9144000" cy="6551640"/>
            </a:xfrm>
          </p:grpSpPr>
          <p:sp>
            <p:nvSpPr>
              <p:cNvPr id="568"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4:08Z</dcterms:modified>
  <cp:revision>150</cp:revision>
  <dc:subject/>
  <dc:title>Παρουσίαση του PowerPoint</dc:title>
</cp:coreProperties>
</file>